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5396-4305-43B5-B4FE-2C3F542B7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F51-C8CE-4DBF-B936-C6A80410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880-7132-4772-BCC8-7EF60F2A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B6B-90B6-4CE9-A5B3-6D978DBC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3FE-C5ED-471D-862A-70C7E3B0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A8D5-909D-4873-A4A1-A22725ED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B189-3F6F-4BAF-93AC-76167F87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EFE8-9BE4-4C3A-A553-513C3C66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F119-D3F1-48BC-9743-B928FF02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D72F-BEFB-4BF3-97BC-0114F37E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FB24-09A2-44C0-AF77-348E7664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11D1-BD66-41F9-AA07-397A0A7B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2BA-3B86-41B0-A4E6-EC64D682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3C70-BF14-41BB-923B-4374D048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13E8-FB69-4C12-B0D7-48C63BC0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AC8F-8E4F-416B-94EF-9EA183AB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8F7F-4779-4EBF-AA71-6D6848C0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C4B5-3EE9-4D02-A9C8-877A40C4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202-93A2-4FF4-A122-F4925EF9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F3D-43B8-42E9-ACEC-5C5C3141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6A5-58A8-4796-A9A5-E234166D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17B-F604-4BCD-B0A1-F3141223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8CF-B765-4B0B-9179-ECC4BCA2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BF3-BF4B-40B0-A256-DDDDF77D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A3D-D368-4E47-A3E5-8287CC5A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9015-0FF4-403A-8475-24F69674C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1E9E-216E-42F2-BAD6-94E2F3FFF0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ss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ion and the Shepherd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scussion Questions for “The Lion and the Shepherd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Defined:</a:t>
            </a:r>
            <a:br>
              <a:rPr sz="4400"/>
            </a:br>
            <a:br>
              <a:rPr sz="40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means being kind and thoughtful towards other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ssionate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genuinely concerned for the welfa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j0281904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mpathetic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eeling an emotional response to the pain and pleasu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sideration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kind, loving, and sensitive to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4:01Z</dcterms:modified>
  <cp:revision>7</cp:revision>
  <dc:subject/>
  <dc:title>Character Education compassion</dc:title>
</cp:coreProperties>
</file>